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6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-21420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mmon Gene Pag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is a common gene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(probably alternate) view of your typical gene page that conforms to a set standard (ie, commo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y do it?  Who is the target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are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tional biologists/bioinformatitians (to compute on large set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ators from other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ow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hat I can think of; it should be ea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42084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at are expected terms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31840"/>
            <a:ext cx="860904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cross-refs, External links (accession, pdb, refseq, genbank, EC numb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&lt;NCBI taxon id=””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Prot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 impl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phnia-b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fleabase.org/lucegene/lookup?id=NCBI_GNO_292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o, what now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 trick is to get two or more orgs to do this, then it may take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?  (which could potentially get lots of org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